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wind.wav" ContentType="audio/x-wav"/>
  <Override PartName="/ppt/media/image16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9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8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86076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1240" y="4265640"/>
            <a:ext cx="86076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96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1240" y="426564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960" y="426564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1480" y="159660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720" y="159660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1240" y="426564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1480" y="426564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720" y="4265640"/>
            <a:ext cx="27712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1240" y="1596600"/>
            <a:ext cx="8607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8607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42004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960" y="1596600"/>
            <a:ext cx="42004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1240" y="255600"/>
            <a:ext cx="8607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596600"/>
            <a:ext cx="42004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1240" y="426564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42004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960" y="426564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1596600"/>
            <a:ext cx="420048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265640"/>
            <a:ext cx="86076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0" y="72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45240"/>
            <a:ext cx="10080720" cy="9162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367160" y="6751800"/>
            <a:ext cx="5707080" cy="52992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cubicBezTo>
                  <a:pt x="5287" y="631"/>
                  <a:pt x="6234" y="730"/>
                  <a:pt x="6234" y="730"/>
                </a:cubicBezTo>
                <a:cubicBezTo>
                  <a:pt x="6234" y="730"/>
                  <a:pt x="7745" y="749"/>
                  <a:pt x="7745" y="749"/>
                </a:cubicBezTo>
                <a:cubicBezTo>
                  <a:pt x="7745" y="749"/>
                  <a:pt x="10213" y="873"/>
                  <a:pt x="10213" y="873"/>
                </a:cubicBez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cubicBezTo>
                  <a:pt x="15853" y="703"/>
                  <a:pt x="15853" y="843"/>
                  <a:pt x="15853" y="843"/>
                </a:cubicBez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55600"/>
            <a:ext cx="8607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1240" y="1596600"/>
            <a:ext cx="8607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 algn="r" rtl="1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 algn="r" rtl="1">
              <a:lnSpc>
                <a:spcPct val="95000"/>
              </a:lnSpc>
              <a:spcAft>
                <a:spcPts val="1426"/>
              </a:spcAft>
              <a:buSzPct val="111603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 algn="r" rtl="1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 algn="r" rtl="1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 algn="r" rtl="1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 algn="r" rtl="1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 algn="r" rtl="1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20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terra.es/personal/jesusconde/Koppen/Portada/cuerpo.htm" TargetMode="External"/><Relationship Id="rId3" Type="http://schemas.openxmlformats.org/officeDocument/2006/relationships/hyperlink" Target="http://www.terra.es/personal/jesusconde/Koppen/Portada/cuerpo.htm" TargetMode="External"/><Relationship Id="rId4" Type="http://schemas.openxmlformats.org/officeDocument/2006/relationships/hyperlink" Target="http://www.terra.es/personal/jesusconde/Koppen/Portada/cuerpo.htm" TargetMode="External"/><Relationship Id="rId5" Type="http://schemas.openxmlformats.org/officeDocument/2006/relationships/hyperlink" Target="http://www.terra.es/personal/jesusconde/Koppen/Portada/cuerpo.htm" TargetMode="External"/><Relationship Id="rId6" Type="http://schemas.openxmlformats.org/officeDocument/2006/relationships/hyperlink" Target="http://www.terra.es/personal/jesusconde/Koppen/Portada/cuerpo.htm" TargetMode="External"/><Relationship Id="rId7" Type="http://schemas.openxmlformats.org/officeDocument/2006/relationships/hyperlink" Target="http://www.terra.es/personal/jesusconde/Koppen/Portada/cuerpo.htm" TargetMode="External"/><Relationship Id="rId8" Type="http://schemas.openxmlformats.org/officeDocument/2006/relationships/hyperlink" Target="http://www.terra.es/personal/jesusconde/Koppen/Portada/cuerpo.htm" TargetMode="External"/><Relationship Id="rId9" Type="http://schemas.openxmlformats.org/officeDocument/2006/relationships/hyperlink" Target="http://www.terra.es/personal/jesusconde/Koppen/Portada/cuerpo.htm" TargetMode="External"/><Relationship Id="rId10" Type="http://schemas.openxmlformats.org/officeDocument/2006/relationships/hyperlink" Target="http://www.terra.es/personal/jesusconde/Koppen/Portada/cuerpo.htm" TargetMode="External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90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ima y tie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312920"/>
            <a:ext cx="2257560" cy="157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24360" y="2843280"/>
            <a:ext cx="24033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72240" y="1442880"/>
            <a:ext cx="4308480" cy="2800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3787920"/>
            <a:ext cx="3219480" cy="279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73640" y="4697280"/>
            <a:ext cx="4914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c2300"/>
                </a:solidFill>
                <a:latin typeface="Times New Roman"/>
              </a:rPr>
              <a:t>CLI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ucesión de tipo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c2300"/>
                </a:solidFill>
                <a:latin typeface="Times New Roman"/>
              </a:rPr>
              <a:t>TIEM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estado que presenta la atmósfera en un lugar y momento determinado. Es puntual e irrepe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96000" y="7164360"/>
            <a:ext cx="312912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iren Felisa Mateo Ciluaga</a:t>
            </a:r>
            <a:endParaRPr b="0" i="1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blinds dir="vert"/>
    <p:sndAc>
      <p:stSnd>
        <p:snd r:embed="rId5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-63720"/>
            <a:ext cx="860904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haroni"/>
              </a:rPr>
              <a:t>Elementos del c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13120"/>
            <a:ext cx="10080720" cy="4546440"/>
          </a:xfrm>
          <a:prstGeom prst="roundRect">
            <a:avLst>
              <a:gd name="adj" fmla="val 32"/>
            </a:avLst>
          </a:prstGeom>
          <a:noFill/>
          <a:ln w="9360">
            <a:solidFill>
              <a:srgbClr val="23b8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5840" y="2100240"/>
            <a:ext cx="883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040" y="3701880"/>
            <a:ext cx="93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04000" y="1709640"/>
            <a:ext cx="1001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60360" y="1514520"/>
            <a:ext cx="45108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5960" y="1322280"/>
            <a:ext cx="1212840" cy="142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18440" y="2619360"/>
            <a:ext cx="1822320" cy="15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572240" y="4524480"/>
            <a:ext cx="2286000" cy="1044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42920" y="2554200"/>
            <a:ext cx="1771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fecto Alb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7920" y="4221000"/>
            <a:ext cx="2282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lor y estruc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3"/>
            <a:endCxn id="59" idx="0"/>
          </p:cNvCxnSpPr>
          <p:nvPr/>
        </p:nvCxnSpPr>
        <p:spPr>
          <a:xfrm>
            <a:off x="6905520" y="1881360"/>
            <a:ext cx="1324800" cy="738720"/>
          </a:xfrm>
          <a:prstGeom prst="bentConnector3">
            <a:avLst>
              <a:gd name="adj1" fmla="val 49986"/>
            </a:avLst>
          </a:prstGeom>
          <a:ln w="36000">
            <a:solidFill>
              <a:srgbClr val="800000"/>
            </a:solidFill>
            <a:prstDash val="sysDot"/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3"/>
          </p:cNvCxnSpPr>
          <p:nvPr/>
        </p:nvCxnSpPr>
        <p:spPr>
          <a:xfrm>
            <a:off x="6905520" y="1881000"/>
            <a:ext cx="2953440" cy="3166200"/>
          </a:xfrm>
          <a:prstGeom prst="bentConnector3">
            <a:avLst>
              <a:gd name="adj1" fmla="val 49993"/>
            </a:avLst>
          </a:prstGeom>
          <a:ln w="36000">
            <a:solidFill>
              <a:srgbClr val="800000"/>
            </a:solidFill>
            <a:prstDash val="sysDot"/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52480" y="1514520"/>
            <a:ext cx="628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600" y="1862280"/>
            <a:ext cx="1357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mp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1040" y="2230560"/>
            <a:ext cx="93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á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43120" y="2597040"/>
            <a:ext cx="113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z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374840" y="3408480"/>
            <a:ext cx="1190520" cy="55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1382760" y="3703680"/>
            <a:ext cx="1190520" cy="65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1347840" y="4375080"/>
            <a:ext cx="1190520" cy="63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15120" y="3181320"/>
            <a:ext cx="4386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érdida de temperatura por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93880" y="3571920"/>
            <a:ext cx="4319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intas condiciones según la cara de la mont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23840" y="4221000"/>
            <a:ext cx="1635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fecto Föh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0" y="4632480"/>
            <a:ext cx="679752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10" name="wind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7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800" y="307440"/>
            <a:ext cx="725976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Black"/>
              </a:rPr>
              <a:t>Factores del c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6800" y="1328760"/>
            <a:ext cx="2884680" cy="248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59560" y="1709640"/>
            <a:ext cx="3521160" cy="2987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7280" y="3832200"/>
            <a:ext cx="2248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18480" y="1190520"/>
            <a:ext cx="1555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9040" y="3441600"/>
            <a:ext cx="1233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05520" y="4351320"/>
            <a:ext cx="1116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E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4840" y="5108400"/>
            <a:ext cx="1369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N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84000" y="4589640"/>
            <a:ext cx="913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1920" y="2727360"/>
            <a:ext cx="2638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480" y="5108400"/>
            <a:ext cx="1268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706840" y="5021280"/>
            <a:ext cx="1253880" cy="1103400"/>
            <a:chOff x="2706840" y="5021280"/>
            <a:chExt cx="1253880" cy="1103400"/>
          </a:xfrm>
        </p:grpSpPr>
        <p:sp>
          <p:nvSpPr>
            <p:cNvPr id="88" name=""/>
            <p:cNvSpPr/>
            <p:nvPr/>
          </p:nvSpPr>
          <p:spPr>
            <a:xfrm>
              <a:off x="3094920" y="5349960"/>
              <a:ext cx="497880" cy="49104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22120" y="5151240"/>
              <a:ext cx="84312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06840" y="5021280"/>
              <a:ext cx="1253880" cy="110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082520" y="5865840"/>
            <a:ext cx="951120" cy="950760"/>
            <a:chOff x="1082520" y="5865840"/>
            <a:chExt cx="951120" cy="950760"/>
          </a:xfrm>
        </p:grpSpPr>
        <p:grpSp>
          <p:nvGrpSpPr>
            <p:cNvPr id="92" name=""/>
            <p:cNvGrpSpPr/>
            <p:nvPr/>
          </p:nvGrpSpPr>
          <p:grpSpPr>
            <a:xfrm>
              <a:off x="1212480" y="5995800"/>
              <a:ext cx="711720" cy="711000"/>
              <a:chOff x="1212480" y="5995800"/>
              <a:chExt cx="711720" cy="711000"/>
            </a:xfrm>
          </p:grpSpPr>
          <p:sp>
            <p:nvSpPr>
              <p:cNvPr id="93" name=""/>
              <p:cNvSpPr/>
              <p:nvPr/>
            </p:nvSpPr>
            <p:spPr>
              <a:xfrm>
                <a:off x="1384920" y="6127560"/>
                <a:ext cx="409320" cy="49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12480" y="5995800"/>
                <a:ext cx="711720" cy="711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082520" y="5865840"/>
              <a:ext cx="951120" cy="95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  <p:sndAc>
      <p:stSnd>
        <p:snd r:embed="rId3" name="wind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800" y="307440"/>
            <a:ext cx="809136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IRCULACIÓN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9640" y="1386000"/>
            <a:ext cx="9394920" cy="1254600"/>
            <a:chOff x="539640" y="1386000"/>
            <a:chExt cx="9394920" cy="1254600"/>
          </a:xfrm>
        </p:grpSpPr>
        <p:sp>
          <p:nvSpPr>
            <p:cNvPr id="98" name=""/>
            <p:cNvSpPr/>
            <p:nvPr/>
          </p:nvSpPr>
          <p:spPr>
            <a:xfrm>
              <a:off x="539640" y="1688760"/>
              <a:ext cx="23173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ASAS DE 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009240" y="1557000"/>
              <a:ext cx="196956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6920" y="1816920"/>
              <a:ext cx="168876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54040" y="1386000"/>
              <a:ext cx="135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L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93320" y="2292840"/>
              <a:ext cx="1843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ROPIC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32920" y="1428480"/>
              <a:ext cx="2501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NTIN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1280" y="2229480"/>
              <a:ext cx="1744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ARÍTI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666480" y="1622160"/>
              <a:ext cx="60588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8800" y="2467080"/>
              <a:ext cx="60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36160" y="1579320"/>
              <a:ext cx="606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8480" y="1579320"/>
              <a:ext cx="77904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14440" y="5499000"/>
            <a:ext cx="1802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ET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2880" y="3046320"/>
            <a:ext cx="6951240" cy="1699920"/>
            <a:chOff x="542880" y="3046320"/>
            <a:chExt cx="6951240" cy="1699920"/>
          </a:xfrm>
        </p:grpSpPr>
        <p:sp>
          <p:nvSpPr>
            <p:cNvPr id="111" name=""/>
            <p:cNvSpPr/>
            <p:nvPr/>
          </p:nvSpPr>
          <p:spPr>
            <a:xfrm>
              <a:off x="542880" y="3594240"/>
              <a:ext cx="1319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R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3073320"/>
              <a:ext cx="863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RÍ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440" y="4200480"/>
              <a:ext cx="1319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ÁL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562720" y="3046320"/>
              <a:ext cx="1931400" cy="1699920"/>
              <a:chOff x="5562720" y="3046320"/>
              <a:chExt cx="1931400" cy="169992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5562720" y="3176280"/>
                <a:ext cx="278640" cy="1569960"/>
              </a:xfrm>
              <a:prstGeom prst="line">
                <a:avLst/>
              </a:prstGeom>
              <a:ln w="720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71600" y="3184200"/>
                <a:ext cx="1622520" cy="39960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76560" y="3494880"/>
                <a:ext cx="195840" cy="259920"/>
              </a:xfrm>
              <a:custGeom>
                <a:avLst/>
                <a:gdLst/>
                <a:ahLst/>
                <a:rect l="l" t="t" r="r" b="b"/>
                <a:pathLst>
                  <a:path w="548" h="724">
                    <a:moveTo>
                      <a:pt x="0" y="676"/>
                    </a:moveTo>
                    <a:lnTo>
                      <a:pt x="16" y="684"/>
                    </a:lnTo>
                    <a:lnTo>
                      <a:pt x="32" y="692"/>
                    </a:lnTo>
                    <a:lnTo>
                      <a:pt x="49" y="698"/>
                    </a:lnTo>
                    <a:lnTo>
                      <a:pt x="66" y="705"/>
                    </a:lnTo>
                    <a:lnTo>
                      <a:pt x="83" y="709"/>
                    </a:lnTo>
                    <a:lnTo>
                      <a:pt x="101" y="714"/>
                    </a:lnTo>
                    <a:lnTo>
                      <a:pt x="119" y="718"/>
                    </a:lnTo>
                    <a:lnTo>
                      <a:pt x="137" y="719"/>
                    </a:lnTo>
                    <a:lnTo>
                      <a:pt x="155" y="721"/>
                    </a:lnTo>
                    <a:lnTo>
                      <a:pt x="173" y="723"/>
                    </a:lnTo>
                    <a:lnTo>
                      <a:pt x="192" y="722"/>
                    </a:lnTo>
                    <a:lnTo>
                      <a:pt x="209" y="721"/>
                    </a:lnTo>
                    <a:lnTo>
                      <a:pt x="228" y="719"/>
                    </a:lnTo>
                    <a:lnTo>
                      <a:pt x="245" y="716"/>
                    </a:lnTo>
                    <a:lnTo>
                      <a:pt x="264" y="712"/>
                    </a:lnTo>
                    <a:lnTo>
                      <a:pt x="281" y="708"/>
                    </a:lnTo>
                    <a:lnTo>
                      <a:pt x="299" y="703"/>
                    </a:lnTo>
                    <a:lnTo>
                      <a:pt x="316" y="696"/>
                    </a:lnTo>
                    <a:lnTo>
                      <a:pt x="332" y="688"/>
                    </a:lnTo>
                    <a:lnTo>
                      <a:pt x="349" y="681"/>
                    </a:lnTo>
                    <a:lnTo>
                      <a:pt x="365" y="672"/>
                    </a:lnTo>
                    <a:lnTo>
                      <a:pt x="381" y="662"/>
                    </a:lnTo>
                    <a:lnTo>
                      <a:pt x="396" y="652"/>
                    </a:lnTo>
                    <a:lnTo>
                      <a:pt x="410" y="641"/>
                    </a:lnTo>
                    <a:lnTo>
                      <a:pt x="424" y="630"/>
                    </a:lnTo>
                    <a:lnTo>
                      <a:pt x="437" y="617"/>
                    </a:lnTo>
                    <a:lnTo>
                      <a:pt x="449" y="604"/>
                    </a:lnTo>
                    <a:lnTo>
                      <a:pt x="462" y="591"/>
                    </a:lnTo>
                    <a:lnTo>
                      <a:pt x="473" y="576"/>
                    </a:lnTo>
                    <a:lnTo>
                      <a:pt x="483" y="561"/>
                    </a:lnTo>
                    <a:lnTo>
                      <a:pt x="493" y="546"/>
                    </a:lnTo>
                    <a:lnTo>
                      <a:pt x="503" y="530"/>
                    </a:lnTo>
                    <a:lnTo>
                      <a:pt x="511" y="513"/>
                    </a:lnTo>
                    <a:lnTo>
                      <a:pt x="519" y="497"/>
                    </a:lnTo>
                    <a:lnTo>
                      <a:pt x="525" y="480"/>
                    </a:lnTo>
                    <a:lnTo>
                      <a:pt x="531" y="463"/>
                    </a:lnTo>
                    <a:lnTo>
                      <a:pt x="536" y="446"/>
                    </a:lnTo>
                    <a:lnTo>
                      <a:pt x="540" y="428"/>
                    </a:lnTo>
                    <a:lnTo>
                      <a:pt x="543" y="411"/>
                    </a:lnTo>
                    <a:lnTo>
                      <a:pt x="546" y="392"/>
                    </a:lnTo>
                    <a:lnTo>
                      <a:pt x="547" y="375"/>
                    </a:lnTo>
                    <a:lnTo>
                      <a:pt x="547" y="356"/>
                    </a:lnTo>
                    <a:lnTo>
                      <a:pt x="547" y="339"/>
                    </a:lnTo>
                    <a:lnTo>
                      <a:pt x="545" y="320"/>
                    </a:lnTo>
                    <a:lnTo>
                      <a:pt x="542" y="302"/>
                    </a:lnTo>
                    <a:lnTo>
                      <a:pt x="540" y="285"/>
                    </a:lnTo>
                    <a:lnTo>
                      <a:pt x="535" y="268"/>
                    </a:lnTo>
                    <a:lnTo>
                      <a:pt x="530" y="250"/>
                    </a:lnTo>
                    <a:lnTo>
                      <a:pt x="524" y="233"/>
                    </a:lnTo>
                    <a:lnTo>
                      <a:pt x="518" y="216"/>
                    </a:lnTo>
                    <a:lnTo>
                      <a:pt x="510" y="199"/>
                    </a:lnTo>
                    <a:lnTo>
                      <a:pt x="502" y="183"/>
                    </a:lnTo>
                    <a:lnTo>
                      <a:pt x="493" y="168"/>
                    </a:lnTo>
                    <a:lnTo>
                      <a:pt x="483" y="154"/>
                    </a:lnTo>
                    <a:lnTo>
                      <a:pt x="473" y="139"/>
                    </a:lnTo>
                    <a:lnTo>
                      <a:pt x="461" y="125"/>
                    </a:lnTo>
                    <a:lnTo>
                      <a:pt x="449" y="112"/>
                    </a:lnTo>
                    <a:lnTo>
                      <a:pt x="435" y="99"/>
                    </a:lnTo>
                    <a:lnTo>
                      <a:pt x="423" y="87"/>
                    </a:lnTo>
                    <a:lnTo>
                      <a:pt x="409" y="76"/>
                    </a:lnTo>
                    <a:lnTo>
                      <a:pt x="394" y="65"/>
                    </a:lnTo>
                    <a:lnTo>
                      <a:pt x="379" y="55"/>
                    </a:lnTo>
                    <a:lnTo>
                      <a:pt x="363" y="45"/>
                    </a:lnTo>
                    <a:lnTo>
                      <a:pt x="348" y="38"/>
                    </a:lnTo>
                    <a:lnTo>
                      <a:pt x="331" y="30"/>
                    </a:lnTo>
                    <a:lnTo>
                      <a:pt x="314" y="23"/>
                    </a:lnTo>
                    <a:lnTo>
                      <a:pt x="297" y="17"/>
                    </a:lnTo>
                    <a:lnTo>
                      <a:pt x="280" y="12"/>
                    </a:lnTo>
                    <a:lnTo>
                      <a:pt x="262" y="8"/>
                    </a:lnTo>
                    <a:lnTo>
                      <a:pt x="244" y="4"/>
                    </a:lnTo>
                    <a:lnTo>
                      <a:pt x="226" y="2"/>
                    </a:lnTo>
                    <a:lnTo>
                      <a:pt x="208" y="1"/>
                    </a:lnTo>
                    <a:lnTo>
                      <a:pt x="190" y="0"/>
                    </a:lnTo>
                    <a:lnTo>
                      <a:pt x="172" y="1"/>
                    </a:lnTo>
                    <a:lnTo>
                      <a:pt x="153" y="2"/>
                    </a:lnTo>
                    <a:lnTo>
                      <a:pt x="135" y="4"/>
                    </a:lnTo>
                    <a:lnTo>
                      <a:pt x="118" y="7"/>
                    </a:lnTo>
                    <a:lnTo>
                      <a:pt x="99" y="11"/>
                    </a:lnTo>
                    <a:lnTo>
                      <a:pt x="82" y="15"/>
                    </a:lnTo>
                    <a:lnTo>
                      <a:pt x="65" y="21"/>
                    </a:lnTo>
                    <a:lnTo>
                      <a:pt x="47" y="28"/>
                    </a:lnTo>
                    <a:lnTo>
                      <a:pt x="30" y="35"/>
                    </a:lnTo>
                    <a:lnTo>
                      <a:pt x="15" y="43"/>
                    </a:lnTo>
                    <a:lnTo>
                      <a:pt x="0" y="676"/>
                    </a:ln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2440" y="3947040"/>
                <a:ext cx="197640" cy="259920"/>
              </a:xfrm>
              <a:custGeom>
                <a:avLst/>
                <a:gdLst/>
                <a:ahLst/>
                <a:rect l="l" t="t" r="r" b="b"/>
                <a:pathLst>
                  <a:path w="550" h="724">
                    <a:moveTo>
                      <a:pt x="0" y="676"/>
                    </a:moveTo>
                    <a:lnTo>
                      <a:pt x="17" y="684"/>
                    </a:lnTo>
                    <a:lnTo>
                      <a:pt x="33" y="692"/>
                    </a:lnTo>
                    <a:lnTo>
                      <a:pt x="49" y="698"/>
                    </a:lnTo>
                    <a:lnTo>
                      <a:pt x="66" y="705"/>
                    </a:lnTo>
                    <a:lnTo>
                      <a:pt x="83" y="709"/>
                    </a:lnTo>
                    <a:lnTo>
                      <a:pt x="101" y="714"/>
                    </a:lnTo>
                    <a:lnTo>
                      <a:pt x="119" y="718"/>
                    </a:lnTo>
                    <a:lnTo>
                      <a:pt x="137" y="719"/>
                    </a:lnTo>
                    <a:lnTo>
                      <a:pt x="155" y="721"/>
                    </a:lnTo>
                    <a:lnTo>
                      <a:pt x="174" y="723"/>
                    </a:lnTo>
                    <a:lnTo>
                      <a:pt x="192" y="722"/>
                    </a:lnTo>
                    <a:lnTo>
                      <a:pt x="210" y="720"/>
                    </a:lnTo>
                    <a:lnTo>
                      <a:pt x="228" y="719"/>
                    </a:lnTo>
                    <a:lnTo>
                      <a:pt x="246" y="716"/>
                    </a:lnTo>
                    <a:lnTo>
                      <a:pt x="265" y="712"/>
                    </a:lnTo>
                    <a:lnTo>
                      <a:pt x="281" y="708"/>
                    </a:lnTo>
                    <a:lnTo>
                      <a:pt x="299" y="703"/>
                    </a:lnTo>
                    <a:lnTo>
                      <a:pt x="317" y="696"/>
                    </a:lnTo>
                    <a:lnTo>
                      <a:pt x="333" y="688"/>
                    </a:lnTo>
                    <a:lnTo>
                      <a:pt x="350" y="680"/>
                    </a:lnTo>
                    <a:lnTo>
                      <a:pt x="366" y="672"/>
                    </a:lnTo>
                    <a:lnTo>
                      <a:pt x="381" y="661"/>
                    </a:lnTo>
                    <a:lnTo>
                      <a:pt x="396" y="651"/>
                    </a:lnTo>
                    <a:lnTo>
                      <a:pt x="411" y="640"/>
                    </a:lnTo>
                    <a:lnTo>
                      <a:pt x="425" y="629"/>
                    </a:lnTo>
                    <a:lnTo>
                      <a:pt x="438" y="617"/>
                    </a:lnTo>
                    <a:lnTo>
                      <a:pt x="451" y="603"/>
                    </a:lnTo>
                    <a:lnTo>
                      <a:pt x="463" y="590"/>
                    </a:lnTo>
                    <a:lnTo>
                      <a:pt x="475" y="575"/>
                    </a:lnTo>
                    <a:lnTo>
                      <a:pt x="485" y="560"/>
                    </a:lnTo>
                    <a:lnTo>
                      <a:pt x="495" y="545"/>
                    </a:lnTo>
                    <a:lnTo>
                      <a:pt x="504" y="530"/>
                    </a:lnTo>
                    <a:lnTo>
                      <a:pt x="512" y="513"/>
                    </a:lnTo>
                    <a:lnTo>
                      <a:pt x="520" y="496"/>
                    </a:lnTo>
                    <a:lnTo>
                      <a:pt x="526" y="480"/>
                    </a:lnTo>
                    <a:lnTo>
                      <a:pt x="532" y="463"/>
                    </a:lnTo>
                    <a:lnTo>
                      <a:pt x="537" y="445"/>
                    </a:lnTo>
                    <a:lnTo>
                      <a:pt x="542" y="427"/>
                    </a:lnTo>
                    <a:lnTo>
                      <a:pt x="545" y="410"/>
                    </a:lnTo>
                    <a:lnTo>
                      <a:pt x="547" y="392"/>
                    </a:lnTo>
                    <a:lnTo>
                      <a:pt x="548" y="374"/>
                    </a:lnTo>
                    <a:lnTo>
                      <a:pt x="549" y="356"/>
                    </a:lnTo>
                    <a:lnTo>
                      <a:pt x="548" y="338"/>
                    </a:lnTo>
                    <a:lnTo>
                      <a:pt x="547" y="319"/>
                    </a:lnTo>
                    <a:lnTo>
                      <a:pt x="544" y="302"/>
                    </a:lnTo>
                    <a:lnTo>
                      <a:pt x="541" y="284"/>
                    </a:lnTo>
                    <a:lnTo>
                      <a:pt x="537" y="267"/>
                    </a:lnTo>
                    <a:lnTo>
                      <a:pt x="532" y="249"/>
                    </a:lnTo>
                    <a:lnTo>
                      <a:pt x="526" y="232"/>
                    </a:lnTo>
                    <a:lnTo>
                      <a:pt x="520" y="215"/>
                    </a:lnTo>
                    <a:lnTo>
                      <a:pt x="512" y="198"/>
                    </a:lnTo>
                    <a:lnTo>
                      <a:pt x="504" y="183"/>
                    </a:lnTo>
                    <a:lnTo>
                      <a:pt x="494" y="167"/>
                    </a:lnTo>
                    <a:lnTo>
                      <a:pt x="485" y="153"/>
                    </a:lnTo>
                    <a:lnTo>
                      <a:pt x="474" y="138"/>
                    </a:lnTo>
                    <a:lnTo>
                      <a:pt x="462" y="124"/>
                    </a:lnTo>
                    <a:lnTo>
                      <a:pt x="451" y="111"/>
                    </a:lnTo>
                    <a:lnTo>
                      <a:pt x="437" y="98"/>
                    </a:lnTo>
                    <a:lnTo>
                      <a:pt x="424" y="86"/>
                    </a:lnTo>
                    <a:lnTo>
                      <a:pt x="410" y="75"/>
                    </a:lnTo>
                    <a:lnTo>
                      <a:pt x="396" y="64"/>
                    </a:lnTo>
                    <a:lnTo>
                      <a:pt x="380" y="54"/>
                    </a:lnTo>
                    <a:lnTo>
                      <a:pt x="365" y="44"/>
                    </a:lnTo>
                    <a:lnTo>
                      <a:pt x="349" y="37"/>
                    </a:lnTo>
                    <a:lnTo>
                      <a:pt x="333" y="29"/>
                    </a:lnTo>
                    <a:lnTo>
                      <a:pt x="316" y="22"/>
                    </a:lnTo>
                    <a:lnTo>
                      <a:pt x="299" y="16"/>
                    </a:lnTo>
                    <a:lnTo>
                      <a:pt x="281" y="12"/>
                    </a:lnTo>
                    <a:lnTo>
                      <a:pt x="264" y="7"/>
                    </a:lnTo>
                    <a:lnTo>
                      <a:pt x="245" y="4"/>
                    </a:lnTo>
                    <a:lnTo>
                      <a:pt x="228" y="2"/>
                    </a:lnTo>
                    <a:lnTo>
                      <a:pt x="209" y="0"/>
                    </a:lnTo>
                    <a:lnTo>
                      <a:pt x="191" y="0"/>
                    </a:lnTo>
                    <a:lnTo>
                      <a:pt x="173" y="0"/>
                    </a:lnTo>
                    <a:lnTo>
                      <a:pt x="155" y="1"/>
                    </a:lnTo>
                    <a:lnTo>
                      <a:pt x="136" y="4"/>
                    </a:lnTo>
                    <a:lnTo>
                      <a:pt x="118" y="6"/>
                    </a:lnTo>
                    <a:lnTo>
                      <a:pt x="101" y="10"/>
                    </a:lnTo>
                    <a:lnTo>
                      <a:pt x="83" y="15"/>
                    </a:lnTo>
                    <a:lnTo>
                      <a:pt x="66" y="21"/>
                    </a:lnTo>
                    <a:lnTo>
                      <a:pt x="49" y="27"/>
                    </a:lnTo>
                    <a:lnTo>
                      <a:pt x="31" y="34"/>
                    </a:lnTo>
                    <a:lnTo>
                      <a:pt x="15" y="43"/>
                    </a:lnTo>
                    <a:lnTo>
                      <a:pt x="0" y="676"/>
                    </a:ln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43360" y="4299480"/>
                <a:ext cx="196200" cy="259920"/>
              </a:xfrm>
              <a:custGeom>
                <a:avLst/>
                <a:gdLst/>
                <a:ahLst/>
                <a:rect l="l" t="t" r="r" b="b"/>
                <a:pathLst>
                  <a:path w="545" h="723">
                    <a:moveTo>
                      <a:pt x="0" y="676"/>
                    </a:moveTo>
                    <a:lnTo>
                      <a:pt x="15" y="685"/>
                    </a:lnTo>
                    <a:lnTo>
                      <a:pt x="32" y="692"/>
                    </a:lnTo>
                    <a:lnTo>
                      <a:pt x="49" y="698"/>
                    </a:lnTo>
                    <a:lnTo>
                      <a:pt x="66" y="704"/>
                    </a:lnTo>
                    <a:lnTo>
                      <a:pt x="83" y="710"/>
                    </a:lnTo>
                    <a:lnTo>
                      <a:pt x="100" y="713"/>
                    </a:lnTo>
                    <a:lnTo>
                      <a:pt x="119" y="717"/>
                    </a:lnTo>
                    <a:lnTo>
                      <a:pt x="136" y="719"/>
                    </a:lnTo>
                    <a:lnTo>
                      <a:pt x="154" y="721"/>
                    </a:lnTo>
                    <a:lnTo>
                      <a:pt x="172" y="722"/>
                    </a:lnTo>
                    <a:lnTo>
                      <a:pt x="190" y="721"/>
                    </a:lnTo>
                    <a:lnTo>
                      <a:pt x="209" y="720"/>
                    </a:lnTo>
                    <a:lnTo>
                      <a:pt x="226" y="719"/>
                    </a:lnTo>
                    <a:lnTo>
                      <a:pt x="244" y="715"/>
                    </a:lnTo>
                    <a:lnTo>
                      <a:pt x="262" y="711"/>
                    </a:lnTo>
                    <a:lnTo>
                      <a:pt x="279" y="707"/>
                    </a:lnTo>
                    <a:lnTo>
                      <a:pt x="297" y="702"/>
                    </a:lnTo>
                    <a:lnTo>
                      <a:pt x="313" y="695"/>
                    </a:lnTo>
                    <a:lnTo>
                      <a:pt x="330" y="687"/>
                    </a:lnTo>
                    <a:lnTo>
                      <a:pt x="347" y="680"/>
                    </a:lnTo>
                    <a:lnTo>
                      <a:pt x="363" y="671"/>
                    </a:lnTo>
                    <a:lnTo>
                      <a:pt x="378" y="661"/>
                    </a:lnTo>
                    <a:lnTo>
                      <a:pt x="393" y="651"/>
                    </a:lnTo>
                    <a:lnTo>
                      <a:pt x="407" y="640"/>
                    </a:lnTo>
                    <a:lnTo>
                      <a:pt x="420" y="629"/>
                    </a:lnTo>
                    <a:lnTo>
                      <a:pt x="434" y="617"/>
                    </a:lnTo>
                    <a:lnTo>
                      <a:pt x="447" y="603"/>
                    </a:lnTo>
                    <a:lnTo>
                      <a:pt x="459" y="590"/>
                    </a:lnTo>
                    <a:lnTo>
                      <a:pt x="470" y="575"/>
                    </a:lnTo>
                    <a:lnTo>
                      <a:pt x="480" y="560"/>
                    </a:lnTo>
                    <a:lnTo>
                      <a:pt x="491" y="546"/>
                    </a:lnTo>
                    <a:lnTo>
                      <a:pt x="499" y="530"/>
                    </a:lnTo>
                    <a:lnTo>
                      <a:pt x="508" y="514"/>
                    </a:lnTo>
                    <a:lnTo>
                      <a:pt x="515" y="497"/>
                    </a:lnTo>
                    <a:lnTo>
                      <a:pt x="522" y="481"/>
                    </a:lnTo>
                    <a:lnTo>
                      <a:pt x="527" y="463"/>
                    </a:lnTo>
                    <a:lnTo>
                      <a:pt x="532" y="446"/>
                    </a:lnTo>
                    <a:lnTo>
                      <a:pt x="536" y="429"/>
                    </a:lnTo>
                    <a:lnTo>
                      <a:pt x="539" y="411"/>
                    </a:lnTo>
                    <a:lnTo>
                      <a:pt x="541" y="394"/>
                    </a:lnTo>
                    <a:lnTo>
                      <a:pt x="543" y="375"/>
                    </a:lnTo>
                    <a:lnTo>
                      <a:pt x="544" y="357"/>
                    </a:lnTo>
                    <a:lnTo>
                      <a:pt x="543" y="339"/>
                    </a:lnTo>
                    <a:lnTo>
                      <a:pt x="542" y="321"/>
                    </a:lnTo>
                    <a:lnTo>
                      <a:pt x="539" y="303"/>
                    </a:lnTo>
                    <a:lnTo>
                      <a:pt x="536" y="285"/>
                    </a:lnTo>
                    <a:lnTo>
                      <a:pt x="532" y="269"/>
                    </a:lnTo>
                    <a:lnTo>
                      <a:pt x="527" y="251"/>
                    </a:lnTo>
                    <a:lnTo>
                      <a:pt x="522" y="234"/>
                    </a:lnTo>
                    <a:lnTo>
                      <a:pt x="515" y="217"/>
                    </a:lnTo>
                    <a:lnTo>
                      <a:pt x="507" y="201"/>
                    </a:lnTo>
                    <a:lnTo>
                      <a:pt x="499" y="185"/>
                    </a:lnTo>
                    <a:lnTo>
                      <a:pt x="490" y="170"/>
                    </a:lnTo>
                    <a:lnTo>
                      <a:pt x="480" y="154"/>
                    </a:lnTo>
                    <a:lnTo>
                      <a:pt x="470" y="141"/>
                    </a:lnTo>
                    <a:lnTo>
                      <a:pt x="459" y="126"/>
                    </a:lnTo>
                    <a:lnTo>
                      <a:pt x="446" y="113"/>
                    </a:lnTo>
                    <a:lnTo>
                      <a:pt x="434" y="100"/>
                    </a:lnTo>
                    <a:lnTo>
                      <a:pt x="420" y="88"/>
                    </a:lnTo>
                    <a:lnTo>
                      <a:pt x="407" y="77"/>
                    </a:lnTo>
                    <a:lnTo>
                      <a:pt x="392" y="66"/>
                    </a:lnTo>
                    <a:lnTo>
                      <a:pt x="377" y="56"/>
                    </a:lnTo>
                    <a:lnTo>
                      <a:pt x="362" y="46"/>
                    </a:lnTo>
                    <a:lnTo>
                      <a:pt x="346" y="39"/>
                    </a:lnTo>
                    <a:lnTo>
                      <a:pt x="330" y="30"/>
                    </a:lnTo>
                    <a:lnTo>
                      <a:pt x="313" y="24"/>
                    </a:lnTo>
                    <a:lnTo>
                      <a:pt x="296" y="18"/>
                    </a:lnTo>
                    <a:lnTo>
                      <a:pt x="278" y="12"/>
                    </a:lnTo>
                    <a:lnTo>
                      <a:pt x="261" y="8"/>
                    </a:lnTo>
                    <a:lnTo>
                      <a:pt x="244" y="5"/>
                    </a:lnTo>
                    <a:lnTo>
                      <a:pt x="225" y="2"/>
                    </a:lnTo>
                    <a:lnTo>
                      <a:pt x="208" y="1"/>
                    </a:lnTo>
                    <a:lnTo>
                      <a:pt x="190" y="1"/>
                    </a:lnTo>
                    <a:lnTo>
                      <a:pt x="171" y="0"/>
                    </a:lnTo>
                    <a:lnTo>
                      <a:pt x="154" y="1"/>
                    </a:lnTo>
                    <a:lnTo>
                      <a:pt x="136" y="3"/>
                    </a:lnTo>
                    <a:lnTo>
                      <a:pt x="118" y="6"/>
                    </a:lnTo>
                    <a:lnTo>
                      <a:pt x="99" y="10"/>
                    </a:lnTo>
                    <a:lnTo>
                      <a:pt x="83" y="14"/>
                    </a:lnTo>
                    <a:lnTo>
                      <a:pt x="65" y="20"/>
                    </a:lnTo>
                    <a:lnTo>
                      <a:pt x="48" y="26"/>
                    </a:lnTo>
                    <a:lnTo>
                      <a:pt x="32" y="33"/>
                    </a:lnTo>
                    <a:lnTo>
                      <a:pt x="15" y="41"/>
                    </a:lnTo>
                    <a:lnTo>
                      <a:pt x="0" y="676"/>
                    </a:ln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7400" y="3046320"/>
                <a:ext cx="289800" cy="296640"/>
              </a:xfrm>
              <a:custGeom>
                <a:avLst/>
                <a:gdLst/>
                <a:ahLst/>
                <a:rect l="l" t="t" r="r" b="b"/>
                <a:pathLst>
                  <a:path w="808" h="824">
                    <a:moveTo>
                      <a:pt x="0" y="456"/>
                    </a:moveTo>
                    <a:lnTo>
                      <a:pt x="786" y="7"/>
                    </a:lnTo>
                    <a:lnTo>
                      <a:pt x="807" y="0"/>
                    </a:lnTo>
                    <a:lnTo>
                      <a:pt x="733" y="823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08800" y="3169800"/>
                <a:ext cx="289800" cy="296640"/>
              </a:xfrm>
              <a:custGeom>
                <a:avLst/>
                <a:gdLst/>
                <a:ahLst/>
                <a:rect l="l" t="t" r="r" b="b"/>
                <a:pathLst>
                  <a:path w="808" h="823">
                    <a:moveTo>
                      <a:pt x="0" y="456"/>
                    </a:moveTo>
                    <a:lnTo>
                      <a:pt x="786" y="6"/>
                    </a:lnTo>
                    <a:lnTo>
                      <a:pt x="807" y="0"/>
                    </a:lnTo>
                    <a:lnTo>
                      <a:pt x="732" y="822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077600" y="3295440"/>
                <a:ext cx="289800" cy="296280"/>
              </a:xfrm>
              <a:custGeom>
                <a:avLst/>
                <a:gdLst/>
                <a:ahLst/>
                <a:rect l="l" t="t" r="r" b="b"/>
                <a:pathLst>
                  <a:path w="807" h="824">
                    <a:moveTo>
                      <a:pt x="0" y="455"/>
                    </a:moveTo>
                    <a:lnTo>
                      <a:pt x="786" y="6"/>
                    </a:lnTo>
                    <a:lnTo>
                      <a:pt x="806" y="0"/>
                    </a:lnTo>
                    <a:lnTo>
                      <a:pt x="732" y="823"/>
                    </a:lnTo>
                    <a:lnTo>
                      <a:pt x="0" y="455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239160" y="3109680"/>
                <a:ext cx="288360" cy="296280"/>
              </a:xfrm>
              <a:custGeom>
                <a:avLst/>
                <a:gdLst/>
                <a:ahLst/>
                <a:rect l="l" t="t" r="r" b="b"/>
                <a:pathLst>
                  <a:path w="804" h="826">
                    <a:moveTo>
                      <a:pt x="0" y="459"/>
                    </a:moveTo>
                    <a:lnTo>
                      <a:pt x="783" y="9"/>
                    </a:lnTo>
                    <a:lnTo>
                      <a:pt x="803" y="0"/>
                    </a:lnTo>
                    <a:lnTo>
                      <a:pt x="731" y="825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786000" y="3242880"/>
                <a:ext cx="289800" cy="282240"/>
              </a:xfrm>
              <a:custGeom>
                <a:avLst/>
                <a:gdLst/>
                <a:ahLst/>
                <a:rect l="l" t="t" r="r" b="b"/>
                <a:pathLst>
                  <a:path w="809" h="786">
                    <a:moveTo>
                      <a:pt x="0" y="454"/>
                    </a:moveTo>
                    <a:lnTo>
                      <a:pt x="786" y="6"/>
                    </a:lnTo>
                    <a:lnTo>
                      <a:pt x="808" y="0"/>
                    </a:lnTo>
                    <a:lnTo>
                      <a:pt x="709" y="785"/>
                    </a:lnTo>
                    <a:lnTo>
                      <a:pt x="0" y="454"/>
                    </a:lnTo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992240" y="3289320"/>
              <a:ext cx="822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35080" y="3767040"/>
              <a:ext cx="7146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  <p:sndAc>
      <p:stSnd>
        <p:snd r:embed="rId1" name="wind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1720" y="263520"/>
            <a:ext cx="80917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POS DE C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417800" y="1558800"/>
            <a:ext cx="2279160" cy="1665720"/>
            <a:chOff x="7417800" y="1558800"/>
            <a:chExt cx="2279160" cy="1665720"/>
          </a:xfrm>
        </p:grpSpPr>
        <p:sp>
          <p:nvSpPr>
            <p:cNvPr id="129" name=""/>
            <p:cNvSpPr/>
            <p:nvPr/>
          </p:nvSpPr>
          <p:spPr>
            <a:xfrm>
              <a:off x="7417800" y="1558800"/>
              <a:ext cx="16740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66"/>
                  </a:solidFill>
                  <a:latin typeface="Times New Roman"/>
                </a:rPr>
                <a:t>AZ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56440" y="2120040"/>
              <a:ext cx="1640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ESIER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32680" y="2876760"/>
              <a:ext cx="1555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ONTA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273800" y="1558800"/>
            <a:ext cx="2576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84520" y="1536840"/>
            <a:ext cx="5195880" cy="4695840"/>
            <a:chOff x="884520" y="1536840"/>
            <a:chExt cx="5195880" cy="4695840"/>
          </a:xfrm>
        </p:grpSpPr>
        <p:sp>
          <p:nvSpPr>
            <p:cNvPr id="134" name=""/>
            <p:cNvSpPr/>
            <p:nvPr/>
          </p:nvSpPr>
          <p:spPr>
            <a:xfrm>
              <a:off x="884520" y="1536840"/>
              <a:ext cx="1454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66"/>
                  </a:solidFill>
                  <a:latin typeface="Times New Roman"/>
                </a:rPr>
                <a:t>Z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38960" y="2575800"/>
              <a:ext cx="1319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ÁL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7400" y="2856600"/>
              <a:ext cx="1843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ROPIC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9080" y="2207520"/>
              <a:ext cx="19440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CUATOR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6760" y="4414320"/>
              <a:ext cx="1826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EMPL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3678120"/>
              <a:ext cx="1572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CEÁ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79200" y="4176000"/>
              <a:ext cx="2401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EDITERRÁN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4280" y="4717080"/>
              <a:ext cx="963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H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1840" y="5193000"/>
              <a:ext cx="21466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NTIN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3960" y="5884920"/>
              <a:ext cx="863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RÍ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2644920" y="1969560"/>
              <a:ext cx="450360" cy="14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294000" y="3635280"/>
              <a:ext cx="450360" cy="194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10800000">
            <a:off x="6430680" y="3727440"/>
            <a:ext cx="333036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4" name="wind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273800" y="1558800"/>
            <a:ext cx="2576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90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ificación de Kö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731960"/>
            <a:ext cx="10080720" cy="5829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5480" y="1084320"/>
            <a:ext cx="86137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terra.e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personal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esusconde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Koppen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Portada/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erpo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1" name="wind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273800" y="1558800"/>
            <a:ext cx="2576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9280" y="0"/>
            <a:ext cx="8609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climas de la Península Ib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10080720" cy="6651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22920" y="6645240"/>
            <a:ext cx="5861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clima mediterráneo tiene distintos ma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869000" y="3893760"/>
            <a:ext cx="1366560" cy="28177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28400" y="5237280"/>
            <a:ext cx="3986280" cy="14745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211800" y="5324400"/>
            <a:ext cx="46080" cy="14097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278400" y="3981600"/>
            <a:ext cx="779760" cy="2730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7280" y="1147680"/>
            <a:ext cx="1119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ce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1720" y="1471680"/>
            <a:ext cx="1233360" cy="1623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1720" y="1471680"/>
            <a:ext cx="1623960" cy="260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wind.wav"/>
      </p:stSnd>
    </p:sndAc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5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02:45Z</dcterms:created>
  <dc:creator/>
  <dc:description/>
  <dc:language>en-US</dc:language>
  <cp:lastModifiedBy>Miren Felisa Mateo Ciluaga</cp:lastModifiedBy>
  <dcterms:modified xsi:type="dcterms:W3CDTF">2005-02-17T20:12:53Z</dcterms:modified>
  <cp:revision>6</cp:revision>
  <dc:subject/>
  <dc:title>Clima y tiempo</dc:title>
</cp:coreProperties>
</file>